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0D7-987F-470F-BE94-2425557B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8F5-9F38-4FD2-BD89-CBACF57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5A4-2449-493A-9391-CCDE7F2E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D54-7511-40C1-B6CE-D61A4C9C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BC9-0642-47A8-BD4A-496B8CB1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6D3F-213F-4842-80F3-E3AA960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8DA5-4BA9-4E66-AB84-B7BAA5B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DAF-B544-45F0-B43E-AC4E874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20F-7076-459C-ADE0-49D9B9A0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BDC-48F8-4DE8-9C07-74A0EFF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F4E3-438C-4A88-89EB-EA859B33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4D3-4FE7-408E-8364-A734D35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B05-1DE1-4066-93C1-3D88DE1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973-2A72-4730-85DD-A152107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CB7-F290-4A50-8554-170673F5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FA85-0232-47F4-9B56-055E545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5E0-CD09-4503-8820-E2E62120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E55-B299-4153-97FB-F6BA2D9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D08-0EB6-47CF-8A1C-90EEDE6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B7E-642A-4F07-86D3-160B186D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58A-E3C3-477D-8B6C-FDBD2BA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FAC-5B34-4722-8F10-12E345D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2C4-5BD2-492B-BCB7-371D962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B7B-F002-4B27-95C3-BD1D1B2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00F-EC93-44E7-A5BE-1BA7911CB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F8B-170F-45B3-B647-1803B9285B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Comic Sans MS"/>
              </a:rPr>
              <a:t>Prisma triunghiular</a:t>
            </a:r>
            <a:r>
              <a:rPr b="1" i="1" lang="ro-RO" sz="4000" spc="-1" strike="noStrike">
                <a:solidFill>
                  <a:srgbClr val="ff6600"/>
                </a:solidFill>
                <a:latin typeface="Comic Sans MS"/>
              </a:rPr>
              <a:t>ă</a:t>
            </a:r>
            <a:r>
              <a:rPr b="1" i="1" lang="en-US" sz="4000" spc="-1" strike="noStrike">
                <a:solidFill>
                  <a:srgbClr val="ff6600"/>
                </a:solidFill>
                <a:latin typeface="Comic Sans MS"/>
              </a:rPr>
              <a:t>    regulat</a:t>
            </a:r>
            <a:r>
              <a:rPr b="1" i="1" lang="ro-RO" sz="4000" spc="-1" strike="noStrike">
                <a:solidFill>
                  <a:srgbClr val="ff6600"/>
                </a:solidFill>
                <a:latin typeface="Comic Sans MS"/>
              </a:rPr>
              <a:t>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Feier Patricia Ca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Gabor Paula Iu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cc"/>
                </a:solidFill>
                <a:latin typeface="Comic Sans MS"/>
              </a:rPr>
              <a:t>Haranguş Diana Andre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Def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isma triunghiular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regulat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  este corpul geometric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ă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ginit de 2 baze care sunt poligoane congruente 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ş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 situate 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î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 plane paralele</a:t>
            </a:r>
            <a:r>
              <a:rPr b="0" i="1" lang="ro-RO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43434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3657240"/>
            <a:ext cx="16761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65760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2819160"/>
            <a:ext cx="2514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124080" y="2133720"/>
            <a:ext cx="167652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133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1337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895480"/>
            <a:ext cx="1526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819520"/>
            <a:ext cx="152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Comic Sans MS"/>
              </a:rPr>
              <a:t>Elementele prisme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2 baze,triunghi echilat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3 fe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 laterale, dreptunghiuri eg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muchia(lateral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) bazei: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muchia lateral</a:t>
            </a:r>
            <a:r>
              <a:rPr b="1" i="1" lang="ro-RO" sz="24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(H)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49568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86400" y="3809520"/>
            <a:ext cx="16765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80988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4120" y="29718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334120" y="2285640"/>
            <a:ext cx="16761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228600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2286000"/>
            <a:ext cx="152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0481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297180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572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4419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6600" y="277560"/>
            <a:ext cx="7961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Formul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=  l² · 3/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l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= P</a:t>
            </a:r>
            <a:r>
              <a:rPr b="0" i="1" lang="ro-RO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·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= 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+ 2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V   = A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· H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38680" y="4343400"/>
            <a:ext cx="2514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3657240"/>
            <a:ext cx="16765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65760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2819160"/>
            <a:ext cx="2514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133720"/>
            <a:ext cx="167652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133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21337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895480"/>
            <a:ext cx="15228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1000" y="2819520"/>
            <a:ext cx="15228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`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Comic Sans MS"/>
              </a:rPr>
              <a:t>PROBLEM</a:t>
            </a:r>
            <a:r>
              <a:rPr b="1" i="1" lang="ro-RO" sz="3200" spc="-1" strike="noStrike">
                <a:solidFill>
                  <a:srgbClr val="b2b2b2"/>
                </a:solidFill>
                <a:latin typeface="Comic Sans MS"/>
              </a:rPr>
              <a:t>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O prismă triunghiulară regulată ABCA’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 are AB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= 8 cm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şi A’B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10 cm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a) Calculaţi înalţimea prismei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b) Calculaţi volumul prism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c)Determinaţi aria triunghiului A’BC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d)Fie D şi E mijloacele segmentelor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[A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’B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]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şi , respectiv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[BC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i)Demonstraţi că DE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||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A’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i="1" lang="ro-RO" sz="2000" spc="-1" strike="noStrike">
                <a:solidFill>
                  <a:srgbClr val="ffffff"/>
                </a:solidFill>
                <a:latin typeface="Comic Sans MS"/>
              </a:rPr>
              <a:t>ii)Calculaţi distanţa dintre dreptele DE şi A’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ulegere “Matematic</a:t>
            </a: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ă pentru evaluarea naţională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”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Varianta 11 , ex. 1 </a:t>
            </a:r>
            <a:r>
              <a:rPr b="1" i="1" lang="ro-RO" sz="1800" spc="-1" strike="noStrike">
                <a:solidFill>
                  <a:srgbClr val="ffffff"/>
                </a:solidFill>
                <a:latin typeface="Comic Sans MS"/>
              </a:rPr>
              <a:t>, S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.3, pg 1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3:52:26Z</dcterms:created>
  <dc:creator>ciocio</dc:creator>
  <dc:description/>
  <dc:language>en-US</dc:language>
  <cp:lastModifiedBy>ciocio</cp:lastModifiedBy>
  <dcterms:modified xsi:type="dcterms:W3CDTF">2011-02-15T16:52:36Z</dcterms:modified>
  <cp:revision>10</cp:revision>
  <dc:subject/>
  <dc:title>Prisma triunghiulară regulată dreaptă</dc:title>
</cp:coreProperties>
</file>